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D689B-8E00-4DF2-A86D-DE298B6E1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B595E-DAAE-4718-8906-82A1AE842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4B877-6C75-4787-B03C-E44D387F3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C30D3-B62F-4BD5-BECA-984D386CF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75EAC-A2E8-488E-8D2C-393D7B732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B005C-9602-481A-B646-A342C8F9A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13F62-7838-4203-8EFD-484CA3FD5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17DD0-0048-4420-A832-423994F7A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9D293-B161-4B96-8801-4852F8567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EF140-94FF-450B-A1EB-26D10AEAC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DF781-56CF-437F-91AB-1B2357594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2A9D7-62E2-413C-B965-863360A48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E0716-1977-49F6-B0AF-DDC14F256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3474A-BC71-4F6A-8B34-FFB11B21F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8F400-180A-4D25-AC18-D6C634B8F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0B7CA-0432-4B5D-B85D-DED658405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9A83D-72F8-4E75-A8CF-D0F16420F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296FB-7FCB-4EC5-B71B-1031C636A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BBD34-5C03-4813-B2BE-469359DE0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A4FF9-7976-4E95-A2C8-F823F75CC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E9D9A-3FF1-46DA-A66F-44BD74ECF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F65E5-2986-4486-B08B-4C551079D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0576C-170A-4A66-BFAE-EADFE0638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0BC39-7CFA-4BA7-AAD7-061741A09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A40F5-6A1B-473B-9640-C3067D5C022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20567-FC8D-4D41-95C0-7A78AF3BAEA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rfi.fr/acturu/articles/111/article_2725.asp" TargetMode="External"/><Relationship Id="rId3" Type="http://schemas.openxmlformats.org/officeDocument/2006/relationships/hyperlink" Target="http://dic.academic.ru/dic.nsf/ruwiki/245753" TargetMode="Externa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ahoma"/>
              </a:rPr>
              <a:t>Престижный Университет Франции - Сорбонн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роект для учащихся 8-9 классо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"/>
          <p:cNvSpPr/>
          <p:nvPr/>
        </p:nvSpPr>
        <p:spPr>
          <a:xfrm>
            <a:off x="1095480" y="198612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9ffff"/>
                </a:solidFill>
                <a:latin typeface="Tahoma"/>
              </a:rPr>
              <a:t>Основополагающий вопрос: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Что дает нам образование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9ffff"/>
                </a:solidFill>
                <a:latin typeface="Tahoma"/>
              </a:rPr>
              <a:t>Проблемные вопросы: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Что такое престижное высшее образование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езде ли одинаково обучают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9ffff"/>
                </a:solidFill>
                <a:latin typeface="Tahoma"/>
              </a:rPr>
              <a:t>Учебные вопросы: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Чем знаменита Сорбонна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Что нужно для того, чтобы обучаться в Сорбонне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Учебный предмет: французский язык, истори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Участники: учащиеся 8 – 9 классов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9ffff"/>
                </a:solidFill>
                <a:latin typeface="Comic Sans MS"/>
              </a:rPr>
              <a:t>Цель: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ctr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редоставить знания учащимся по истории Университета Сорбонна, включая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ctr">
              <a:spcBef>
                <a:spcPts val="799"/>
              </a:spcBef>
              <a:buClr>
                <a:srgbClr val="ffff99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Историю основа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ctr">
              <a:spcBef>
                <a:spcPts val="799"/>
              </a:spcBef>
              <a:buClr>
                <a:srgbClr val="ffff99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снователе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ctr">
              <a:spcBef>
                <a:spcPts val="799"/>
              </a:spcBef>
              <a:buClr>
                <a:srgbClr val="ffff99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Работу Университет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9ffff"/>
                </a:solidFill>
                <a:latin typeface="Tahoma"/>
              </a:rPr>
              <a:t>Методические задачи проекта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олучить знания  о конкретном учебном заведени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Узнать об образовании во Франци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Научиться искать проблему и пути её решени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9ffff"/>
                </a:solidFill>
                <a:latin typeface="Tahoma"/>
              </a:rPr>
              <a:t>Результаты представления исследования: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Доклад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ыступлени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резентац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Конкурс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9ffff"/>
                </a:solidFill>
                <a:latin typeface="Tahoma"/>
              </a:rPr>
              <a:t>Этапы и сроки проведения проекта: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На создание проекта ученику дается 4 часа. Из них 1 час на выбор темы, 2 час на поиск информации, 3 час на создание проекта, 4 час на оценку проект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9ffff"/>
                </a:solidFill>
                <a:latin typeface="Tahoma"/>
              </a:rPr>
              <a:t>Ресурсы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99"/>
                </a:solidFill>
                <a:uFillTx/>
                <a:latin typeface="Tahoma"/>
                <a:hlinkClick r:id="rId2"/>
              </a:rPr>
              <a:t>http://www.rfi.fr/acturu/articles/111/article_2725.asp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99"/>
                </a:solidFill>
                <a:uFillTx/>
                <a:latin typeface="Tahoma"/>
                <a:hlinkClick r:id="rId3"/>
              </a:rPr>
              <a:t>http://dic.academic.ru/dic.nsf/ruwiki/245753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99"/>
                </a:solidFill>
                <a:uFillTx/>
                <a:latin typeface="Tahoma"/>
              </a:rPr>
              <a:t>http://ru.wikipedia.org/wiki/%D0%9C%D0%BE%D0%BD%D0%BC%D0%B0%D1%80%D1%82%D1%8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1:03:04Z</dcterms:created>
  <dc:creator>User_04</dc:creator>
  <dc:description/>
  <dc:language>en-US</dc:language>
  <cp:lastModifiedBy>Валюша</cp:lastModifiedBy>
  <dcterms:modified xsi:type="dcterms:W3CDTF">2009-10-20T13:46:26Z</dcterms:modified>
  <cp:revision>4</cp:revision>
  <dc:subject/>
  <dc:title>Престижный Университет Франции - Сорбонна</dc:title>
</cp:coreProperties>
</file>